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945-D7EE-4B15-B3D7-B227C2F4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40A-B91D-4352-AA0F-545F0081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229-C39B-4DEE-A6CF-A289AA64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F31D-7A52-49D6-BF88-B16EE963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47FB-63ED-4237-915D-C14E05F7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C8BE-7304-4028-8823-1C422057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C293-AB4E-4018-8DF6-043EBBA3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9ACA-2622-4904-9787-0C5F0EEE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2981-D050-4B3F-89FF-F2395856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B703-616F-4771-9EE4-A2801AD0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749F-185E-45CF-95DE-5DECD7E2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DDE1-7085-4BAE-A5D5-139FC184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0842-D25B-494E-9A58-EB90B351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6F57-5CDB-4C63-9C5B-F49D9306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9D9C-6D2B-4A99-BF57-28FC18E5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8F6E-493B-43E3-819B-72474273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ACE6-48C3-4DC6-BF15-59AFE52B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9B3-23D3-48C4-B0B6-3655CF9B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B3F2-7191-4478-80F1-0F4334B5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DDA6-B5B5-439A-8FB5-BA6F9CE1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411-9420-437A-9E04-20CECCC4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2035-6991-4942-92A0-E8575311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B01-8C97-4C47-A9AC-A45177CE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8CB-523B-43E5-ADF9-E4931DCE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0798-B67C-49B6-82AB-019995B63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760E-B311-4968-B82D-B9D2275F1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杜工部集》</a:t>
            </a:r>
            <a:endParaRPr b="1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汤书昆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1447920"/>
            <a:ext cx="640080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杜工部集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唐人诗歌的时代内容与杜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甫坎坷动荡的生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甫诗歌的思想与风格特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诗精选精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19320" y="1066680"/>
            <a:ext cx="6858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月   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今夜漉州月，闺中只独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遥怜小儿女，未解忆长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香雾云鬓湿，清辉玉臂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何时倚虚幌，双照泪痕干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登    高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风急天高猿啸哀，渚清沙白鸟飞回。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无边落木萧萧下，不尽长江滚滚来。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万里悲秋长作客，百年多病独登台。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艰难苦恨繁霜鬓，潦倒新停浊酒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思考题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怎样理解杜甫作品“沉郁顿挫”的风格特征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由杜甫其人其诗谈磨励人格、精炼胸怀的普遍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您觉得应该怎样评价李白的飘逸和杜甫的挚重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推荐阅读书目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杜诗详注》，仇兆鳌著，中华书局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79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新版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新唐书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甫本传》，宋祁等撰，中华书局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75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杜甫传》，冯至著，百花文艺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99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7:17:28Z</dcterms:created>
  <dc:creator>Billgates</dc:creator>
  <dc:description/>
  <dc:language>en-US</dc:language>
  <cp:lastModifiedBy>Billgates</cp:lastModifiedBy>
  <dcterms:modified xsi:type="dcterms:W3CDTF">2004-06-02T07:56:42Z</dcterms:modified>
  <cp:revision>6</cp:revision>
  <dc:subject/>
  <dc:title>坛  经</dc:title>
</cp:coreProperties>
</file>