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609-4E79-46E2-A58F-1DE50327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954-0069-40D0-AAC2-D4DE3E63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316-522F-4C45-B4AE-E875BFC8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CA2-064E-43A3-B19F-C6626E45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C79-4362-4BB2-A9C1-CF304B56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AE5-3E5E-45A1-884E-D1BFC788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D56-EF0F-4C6B-B9E5-1503221A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376-D61C-4E34-89BC-7E470192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C1F-54A5-485C-A6D0-FBCABEA1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4BA-57E6-41E6-B6E7-5D97C8DC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1C8-5EF2-455F-BC33-3A7361B2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BB3-6229-497E-8960-64CE93CF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7CA7-D73A-4516-86C2-BF4F11ACD6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坛  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方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1062000"/>
            <a:ext cx="640080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坛 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关于“禅宗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坛经》中的慧能大师生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坛经》中禅宗的主要思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禅宗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禅宗所说的“顿悟”是可能的吗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禅宗为何会有如此大的影响力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推荐阅读书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坛经校释》，［唐］慧能著，郭明校释，中华书局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3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佛学的革命》，杨惠南著，河北人民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8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隋唐佛教史稿》，汤用彤著，中华书局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2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7:18:37Z</dcterms:modified>
  <cp:revision>2</cp:revision>
  <dc:subject/>
  <dc:title>坛  经</dc:title>
</cp:coreProperties>
</file>