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DC3-B5F4-4370-851E-D0F7727A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ACE-8239-4FB4-920C-17A23FBE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0CE-4ED0-40C2-AEC3-5E3E4A43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BA50-BEAE-4786-BBB6-6B11290F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1CC3-BC6C-498B-B845-C4852A37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EDCA-45E5-4A8B-9E34-64D4A364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643A-4AD7-41A7-8CF1-D7C88B52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B2C9-68F2-44A2-986B-03990FF2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A6E4-44F4-4528-8C2B-7DDAF534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A6C3-DAD0-42E7-BAE5-6A703F46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DADA-7205-4F6A-93AD-F52F7773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C84-1278-4325-B4B4-2F4EC8DF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7CF0-FFED-41FD-AEDF-BA6624F1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9276-56A5-4C89-BA20-9C0F33CD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6665-8B40-47F9-9289-135AC1DC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CE82-1E60-44D8-BC3A-340CF1A6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A630-E330-4E47-A01B-15B61DBC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6EF-A694-4AFB-8C2E-610251DE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8A9-3CCE-47BA-B382-C51A4CDE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953-C080-43B4-9D43-66AFB153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6A0-2604-4384-99A4-B0D0F514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CAD-905B-4E09-AF7B-016049F2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D78-DA78-4E88-B2A6-5C28DB8E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B7F-4CA0-4758-B69D-8DACC569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2F4A-8AD0-4257-B060-81235F2F7E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9410-515A-4DE8-8861-A9FF0980E8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苏 轼 集》</a:t>
            </a:r>
            <a:endParaRPr b="1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汤书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1905120"/>
            <a:ext cx="822960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苏 轼 集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苏东坡的人生历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苏东坡的个性魅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苏东坡人生选择的时代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篇《前赤壁赋》导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东坡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题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苏东坡人生观的复杂性是怎样体现的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觉得应该怎样进行评价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苏东坡豪放词在词史上的贡献有哪些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豪放、旷远、婉约三种风格在苏词中是如何衔接融汇的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苏东坡提出的“行云流水、自然生发”的散文理论在《前赤壁赋》中是怎样体现的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推荐阅读书目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苏轼选集》，王水照选注，上海古籍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4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苏东坡传》，林语堂著，张振玉译，上海书店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9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宋史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苏轼本传》，［元］脱脱等撰，中华书局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77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8:48:26Z</dcterms:modified>
  <cp:revision>16</cp:revision>
  <dc:subject/>
  <dc:title>坛  经</dc:title>
</cp:coreProperties>
</file>