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6DB-B58C-4C8F-BDA6-CB572A0E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AA0-2B07-4136-ACB3-EA3E6C86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EF4-4B61-4F0E-A371-9A702195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A2D-6E77-4A52-88EA-384C19E1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1817-602C-46BB-A7CA-656D7327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B19B-777F-4EEF-AFDB-FD27CA15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1AB7-7298-416D-9D58-C3B7B8BF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44DD-8340-4227-BA27-9800CBB7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7A63-3CBB-4CD1-BA65-6A4DFF38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1D00-FED3-4930-B77B-FC8137CC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04D1-70D2-44AD-BAB0-89EE71F9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31A-D5A4-45D9-8C61-A416D6B0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2CFC-5FF0-431C-A13D-5BBE2F34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C1CF-183D-4C9D-A9B1-78F60C53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E801-00BA-4770-8422-3AD14061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A902-F5A5-4C66-BAA7-7F3A05BD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CB32-7007-465A-BF99-6C4D30F9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683-9E1E-4851-9958-D78D902B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CE0-5903-44C6-A9AC-88D15DD7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189-AB09-4E78-8211-38026372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7FC-7BA8-4BC0-94B9-8C2BAEB2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3FB-5CED-43E8-9CB1-E8EFB6F7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534-6BDC-40CE-ACAC-75163CD9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39C-1C27-4830-AE65-1320207D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C6C6-9C60-4C3B-9676-29A389F241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C29B-F728-4D8D-B593-9F02CA633B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277640"/>
            <a:ext cx="6248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00"/>
                </a:solidFill>
                <a:latin typeface="华文中宋"/>
                <a:ea typeface="华文中宋"/>
              </a:rPr>
              <a:t>论   语</a:t>
            </a:r>
            <a:endParaRPr b="0" lang="en-US" sz="8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周凤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1366920"/>
            <a:ext cx="723924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论 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孔子的生平与时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论语》一书的外围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论语》中所反映的孔子思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习《论语》的现实意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033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华文中宋"/>
                <a:ea typeface="华文中宋"/>
              </a:rPr>
              <a:t>思考题：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6934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看待孔子周游列国的行为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什么他的政治主张不被当时的统治者所接受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为什么不能变通一下以适应当时的社会现实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 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不同的历史时期，孔子在人们心目中的形象是不同的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们为什么要改塑孔子的形象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孔子的真实面目究竟是怎样的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没有必要恢复孔子的真面目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怎样去恢复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孔子创立的儒家思想的真谛究竟是什么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它在整个两千多年封建历史长河中，究竟起了怎样的作用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对于今天的新文化事业的建设，将有多少积极的作用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采取怎样的扬弃吸收的态度才是正确的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推荐阅读书目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论语译注》，杨伯峻译著，中华书局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0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先秦诸子初探》，刘毓璜著，江苏人民出版社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4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孔子与中国之道》，［美］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H.G.Creel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著，高传诚译，山西人民出版社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3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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中国古代思想史论》，李泽厚著，人民出版社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5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7:35:52Z</dcterms:modified>
  <cp:revision>6</cp:revision>
  <dc:subject/>
  <dc:title>坛  经</dc:title>
</cp:coreProperties>
</file>