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13C-E2CC-4A54-B40B-6DAB1390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A28-47F9-4F36-A271-FF89D73D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ECC-A30C-4B4E-86D4-D319D9B4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7D8-B6F3-48DC-8DBA-0421E9A6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A86-8C1D-4AA3-85C8-2F9D450E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C09E-9207-4494-9DA8-3425CEE7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30C-B227-45AE-B6D8-B89D0B62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17A-9D6C-42D5-81F8-4BE995D5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9AA-D61F-46DE-8C40-F4D2C5B5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4C3-926C-4130-9ACE-7D6CB946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A3D-F7AF-4AA4-9456-8AF8538C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4344-FC32-4E21-9DC5-4C33812E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4CA4-E2DB-428F-B842-B52A9BE158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理 想 国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 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2057400"/>
            <a:ext cx="723888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烧掉所有的图书馆吧，因为它们的价值都在这本书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爱默生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1062000"/>
            <a:ext cx="739152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理想国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柏拉图撰写《理想国》一书的原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理想国》一书中的理想社会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理想国》的哲学基础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理想国》一书的意义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考题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认为柏拉图的“理想国”是一种完善的国家形式吗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如何理解道德与合理性之间的关系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推荐阅读书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理想国》，［古希腊］柏拉图著，郭斌，张竹明译，商务印书馆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6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古希腊哲学史纲》，［德］策勒尔著，翁绍军译，山东人民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92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柏拉图——生平及其著作》，［英］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·E·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泰勒著，谢随知等译，山东人民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91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08:15:11Z</dcterms:modified>
  <cp:revision>5</cp:revision>
  <dc:subject/>
  <dc:title>坛  经</dc:title>
</cp:coreProperties>
</file>