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2285-AB0C-4195-87AA-B4FF063D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976B-B740-4B34-878E-6335F676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F78A-8F53-466B-AF06-FC44F55C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8B0C-DFE1-46EE-8F59-1AAEFB01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2C43-E81C-448D-91D5-3737AAB0E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AAF9-787B-42C0-8B28-BE2901BF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C461-E65C-47B8-BC19-DD5A6E31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9C91-DFA0-4ABE-9D10-7DCF1C77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D1D3-CED1-4630-8BA7-12B7CFBA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2E1A-65C4-4BC2-9E6C-1B675743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5B14-D53E-4107-905B-6A8D88F7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246F-23DD-4774-AAB7-97C6E1E2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9733-1075-47D3-BDA5-ED69037F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609F-AA21-483F-8FB6-0FE63F25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9996-654B-49AD-90DE-1545B254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AA16-A49B-479D-A3D8-A998192AF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E188-DB65-4EAE-B685-36CC8AEB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662A-B902-458F-B131-9EC6DD7E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D012-A2BC-4571-8299-F0184511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F407-2CF0-4444-88D7-2B0C6847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C058-0B54-4875-B549-88767D0F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CE7B-FC3D-48AB-8E27-BA4928BB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5266-AA4D-4958-A986-9D4B69D4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1B50-B9B2-488F-A4AD-8EF58CA0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3DD5-5C6D-4194-B302-77915E8A16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CF98-8201-41C3-A19A-3571A5A886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林泉高致》</a:t>
            </a:r>
            <a:endParaRPr b="1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汤书昆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1905120"/>
            <a:ext cx="8229600" cy="37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林泉高致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关于艺术大师郭熙的基本情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郭熙的艺术创作及其精神遗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林泉高致》的人生倾向与艺术思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林泉高致》中的艺术人生范式欣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思考题：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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您认为宋人山水画与后代山水画在审美把握及表现方式上有何不同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请举例说明。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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请分析郭熙“三远论”的审美内涵，并谈谈对“平远”境界的理解。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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试分析“春山澹冶而如笑，夏山苍翠而如滴，秋山明净而如妆，冬山惨淡而如睡”的美学内涵。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推荐阅读书目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宋辽金画家史料》，陈高华编，文物出版社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84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版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山川悠远——中国山水画艺术》，［英］迈珂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苏立文著，洪再新译，岭南美术出版社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89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版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中国艺术精神》，徐复观著，春风文艺出版社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87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版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07:17:28Z</dcterms:created>
  <dc:creator>Billgates</dc:creator>
  <dc:description/>
  <dc:language>en-US</dc:language>
  <cp:lastModifiedBy>Billgates</cp:lastModifiedBy>
  <dcterms:modified xsi:type="dcterms:W3CDTF">2004-06-02T08:43:59Z</dcterms:modified>
  <cp:revision>14</cp:revision>
  <dc:subject/>
  <dc:title>坛  经</dc:title>
</cp:coreProperties>
</file>