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60C-CE88-412E-AF41-1A2E5145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0EA-02F8-4E1A-B826-1B68AD2E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367-FC3E-4AFC-92C8-C427AB28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539-4BD8-4084-B488-2592CC6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FB88-32F4-4AB5-874F-164B150D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B601-9192-40D3-AD3F-141F7772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1ECD-4089-4069-B5C3-7D15DF5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2B2-6633-4CAB-BC6B-F9F6AAE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82CF-37E4-43B0-9D55-A69165E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8557-166A-40AF-BACA-98A2EF22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7E1C-90EA-4BB8-B3AE-50673B6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ED4-1886-478B-91E4-F82C9FA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EC3-A4E5-4783-9121-353E8A2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80A8-93A2-4102-B165-B4D7C83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D3CC-A8D2-45B0-B7E3-63BC3E8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64E-25E5-478D-986A-E51E6787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3A38-D683-4505-B223-B03AABB9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671-449B-45DB-BBFA-8AE4E1C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BF0-3DB0-4C3D-96AF-956B4AE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2E7-49F1-44C5-9F0D-8EDD678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E0D-8F95-4A95-8BD4-3944954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4AE-0534-4012-AC7F-42DED2D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635-3CED-4649-9A75-5AF27B21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0F7-FFDD-4C10-86E8-CF88D36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8BC2-A90F-4705-ABB7-0849E2C43F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236B-7B34-44D6-B26B-A0FF7BE88C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雪  国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600200"/>
            <a:ext cx="82296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雪  国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川端康成生平要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作《雪国》的情节断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《雪国》看日本传统审美的“物之哀”体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哲学层面所看到的《雪国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您认为川端康成的唯美倾向是以虚无为主导，还是以纯真为主导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雪国》的艺术境界是“清幽玲珑”的，您认为这是一种什么样的情调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“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创造欣赏的距离”从艺术哲学上应该怎样理解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川端康成小说选》，川端康成著，叶渭渠译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5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川端康成散文选》，川端康成著，叶渭渠译，百花文艺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5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川端康成评传》，叶渭渠著，中国社会科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26:22Z</dcterms:modified>
  <cp:revision>9</cp:revision>
  <dc:subject/>
  <dc:title>坛  经</dc:title>
</cp:coreProperties>
</file>