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A737-763F-4435-986E-8838338B0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C4BD-B60D-4B6F-9A05-ECED027A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1916-0174-4914-B654-1BAD671A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DAC7-9416-46D9-969D-282C89F62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B587-19BF-4031-8988-874D1263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D4E0-5AFD-4439-999D-19DA56F4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27F5-7B69-40CF-9266-0F5EF7BF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9AC3-1FA6-4E60-A53D-488AF56F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2F40-1CEA-419C-BAF3-F3E86636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7A90-B2D0-4B08-8173-18BF1531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9B85-76B4-4112-A685-FAF65B66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D8AF-0750-4E55-B75F-85C7E1A7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37B4-2E8B-4E03-92D1-6BB95447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23D6-2405-4707-9249-0FE09E59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C2F1-6251-4A7A-B3A3-12AE5BB5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4824-3B4E-4CE2-9780-88F6941D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39BD-1B90-44E6-A6C4-E59320420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8B77-5530-48B2-B095-843DB37F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B87D-CF37-45A9-9FED-D73D8226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6355-D26B-410A-AB9C-94526589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28D6-54C5-46AC-A0EC-8D3D4437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A6E7-6AFB-4EAF-85B3-46E84853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8BC6-0AF5-44A5-B20E-E730A2A1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23A7-05BB-4D39-B479-31D9F818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5C8D-8FA1-4F68-A19C-A777E83223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9CFB-C7C6-4C12-94F0-75582DE5F5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野  草》</a:t>
            </a:r>
            <a:endParaRPr b="1" lang="en-US" sz="8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汤书昆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1905120"/>
            <a:ext cx="8229600" cy="37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野草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鲁迅——中国现代新旧交替时期的经典象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对鲁迅这一经典象征的复杂性解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野草》的内涵及《秋夜》欣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思考题：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谈谈鲁迅的思想矛盾及由此而形成的深度。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由《秋夜》的情绪和表现特征看鲁迅人格的光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秋夜》中，“一株是枣树，还有一株也是枣树”的写法起到了什么作用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推荐阅读书目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野草》，鲁迅著，人民文学出版社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73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版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国外鲁迅研究论集》，乐黛云编，北京大学出版社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81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中国意识的危机——“五四”时期激烈的反传统主义》，［美］林毓生著，穆善培译，贵州人民出版社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88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版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07:17:28Z</dcterms:created>
  <dc:creator>Billgates</dc:creator>
  <dc:description/>
  <dc:language>en-US</dc:language>
  <cp:lastModifiedBy>Billgates</cp:lastModifiedBy>
  <dcterms:modified xsi:type="dcterms:W3CDTF">2004-06-02T08:35:35Z</dcterms:modified>
  <cp:revision>12</cp:revision>
  <dc:subject/>
  <dc:title>坛  经</dc:title>
</cp:coreProperties>
</file>