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01D-827F-4507-8507-3E63EFDB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D3C-3F03-4A76-9F2F-4651C9A0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CB0-77AF-4982-97DA-A59FD7F5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116-2783-4406-B6BC-B1E957DB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D76C-EFCD-4B7B-AC91-13B63905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B8C0-5963-4103-B054-4B5EE0EB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6D9D-CC5B-4616-BC91-9282E95F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04B-9DCA-4536-99C3-528C3697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A844-6B36-4E08-9C8F-48DF09B9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58CD-152F-4CAF-A003-E91554F0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7CC5-DC7E-4619-8B66-8303B81B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BC6-AC4F-474F-BD2A-844F25D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46B-FC32-4FEB-95FC-E4922129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6462-18FA-48C7-A223-306E2782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FBA3-90BE-4C9E-AABA-94F5C610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695-35D5-440D-8C2F-F450ABFA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3BBE-C749-48FF-BD4A-92CC57A3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FE7-0C21-46C5-A6AD-D350FBE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7EC-C1BC-4DFD-971F-5497EE4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3D1-9917-4B2D-AB18-6BF7245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A14-1A65-4326-9941-65BAC49E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96A-962D-40BA-9236-A36D17F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504-6FBB-499D-BD5C-6079C1B2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8EA-6224-42CA-BD3D-CEABA7A3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82A8-B80A-4749-8579-177B2C7977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0AA2-B8C1-4BD5-B9D5-F4395B15E6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 楼 梦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82296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 楼 梦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曹雪芹及其人生简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楼梦》的创作艰辛与血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幻作真——《红楼梦》的哲理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情的高扬——《红楼梦》的审美理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理的反思——《红楼梦》的社会批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楼梦》的续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理解《好了歌注》的悲观立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鲁迅先生说：“悲凉之雾，遍被华林，然呼吸而领会者，独宝玉而已。”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认为《红楼梦》的结局应该是什么样的一种状况？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楼梦》，［清］曹雪芹、高鹗著，人民文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楼启示录》，王蒙，三联书店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楼梦论稿》，蒋和森，人民文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红楼梦资料汇编》，朱一玄编，南开大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5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55:04Z</dcterms:modified>
  <cp:revision>17</cp:revision>
  <dc:subject/>
  <dc:title>坛  经</dc:title>
</cp:coreProperties>
</file>