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1BA-C836-41E8-976C-B4B02B53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13A-6BEA-4439-BB60-76E06A8C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499-C024-4A15-97A1-DAB7F139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827-A3F1-4518-8B4F-58451AB7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B10D-5A15-4DBC-A65F-5C324E8A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9BE4-9E6F-4B17-9852-9CF41DB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6EEF-CD73-41BA-AE5C-A89174E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52FB-0445-4CCE-BE48-7AAF4DB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6B92-0C6A-40D7-920F-82CEB20E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935-D736-40E6-8BFE-875D2C7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D3AD-B3C9-4F4A-8D79-D9054A4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7F5-1787-415A-835E-E1C97E0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F50D-EB62-4B78-A4D1-09176394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0240-1B1B-44FE-B69A-661FA43B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631-DB69-4CFA-8D84-BCD3FFC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72CF-7D08-4105-ABA4-F18D4375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F60-315B-42FA-8356-D93F3ADB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792-5FB2-428E-9E1B-55F6E67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804-2259-44FC-AA49-4E83E50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692-84C8-4405-86B7-D0A1F1C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D20-0B16-466B-A234-3F77EF26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093-F18B-4B80-AA9D-808ECEB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F7A-A9A5-41CF-8678-5441D2F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8D9-9744-49D7-8F1F-D8EDB4CC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3F85-8916-4579-ACE0-E8CDEE5916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CC8-83FB-41A9-9119-937E840E8E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ffff"/>
                </a:solidFill>
                <a:latin typeface="华文中宋"/>
                <a:ea typeface="华文中宋"/>
              </a:rPr>
              <a:t>周  易</a:t>
            </a:r>
            <a:endParaRPr b="0" lang="en-US" sz="8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柯资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1062000"/>
            <a:ext cx="72388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周  易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周易》的精神取向与经典价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周易》在说什么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周易》的学术方向溯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周易》的符号系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走向世界与走向未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华文中宋"/>
                <a:ea typeface="华文中宋"/>
              </a:rPr>
              <a:t>思考题：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7086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周易有机自然观及系统思维的现代价值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周易人文精神对健康人格形成的意义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周易与创新思维或创造性体验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华文中宋"/>
                <a:ea typeface="华文中宋"/>
              </a:rPr>
              <a:t>推荐阅读书目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周易译注》，黄寿琪，张善文译注，上海古籍出版社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89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内圣外王的贯通——北宋易学的当代阐释》，余敦康著，学林出版社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7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中国系统思维》，刘长林著，中国社会科学出版社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1990</a:t>
            </a:r>
            <a:r>
              <a:rPr b="0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7:17:28Z</dcterms:created>
  <dc:creator>Billgates</dc:creator>
  <dc:description/>
  <dc:language>en-US</dc:language>
  <cp:lastModifiedBy>Billgates</cp:lastModifiedBy>
  <dcterms:modified xsi:type="dcterms:W3CDTF">2004-06-02T07:36:48Z</dcterms:modified>
  <cp:revision>4</cp:revision>
  <dc:subject/>
  <dc:title>坛  经</dc:title>
</cp:coreProperties>
</file>