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D11-F5AE-4D66-BF3C-56264643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D09-8A98-4AA9-96E9-74143FA3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ABD-2107-46F6-9FD8-02DC52CC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27C-53DB-4E67-B965-914CD0AF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E1D-D389-4D6B-ADAE-BA6DB34A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3EAA-1ADC-4789-97DF-FF066F32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E05-4CE0-46A0-88CA-97A9917C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B60D-C01D-4EA9-8244-4F858E5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B645-9A7E-4066-B996-A241D95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9B3D-81B3-4D5D-B210-41FF147D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9CCA-5633-4D73-894A-B00F30C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E66-42A8-4BD9-A0C0-0F41F390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D71-6ACA-4C5F-9E88-D833FDF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0D55-91A7-48F1-9938-83A33B1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773C-67EC-44F3-BFEC-1CA7959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03A0-37A6-4C74-BFBC-9EBB0D58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D3A1-F010-4692-9148-EC8F72FD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71E-D9C1-4879-927B-FD622B38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DE5-94D4-43E6-9AAC-7D8D6E32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E23-714A-4CCE-9025-DC457DBA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4AC-6D2B-446B-8E38-1D595C0E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C7E-4D8B-4FF6-BEF6-E3F46476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732-C89F-4651-94DA-AD2A0B66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3BD-E528-4AFB-8AE3-DFB9D78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花1-2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花2-2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4B0D-C356-443D-88B4-F87AFDB27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花1-1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2-1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B956-7F4E-4CA2-A26E-9260EC12E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浮 士 德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 健 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14600" y="1600200"/>
            <a:ext cx="396252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浮 士 德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的一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品的内容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简短的评论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浮士德》一书的精神内涵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浮士德》一书对中国现代文化有哪些影响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浮士德》，上海译文出版社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9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16:07:47Z</dcterms:modified>
  <cp:revision>8</cp:revision>
  <dc:subject/>
  <dc:title>坛  经</dc:title>
</cp:coreProperties>
</file>