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084-BC9A-4928-9E4B-401515F7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F1D-4222-49D0-9260-D464878E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242-8099-411B-A0E1-DED6B549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401-8A9E-4762-AF4E-340CF450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3C0E-FCA8-4EA9-94DE-64700441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C8F8-279C-4494-A0BD-F55D7D84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01CF-37AF-4A2C-994E-B30A9E0D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3782-4832-41B2-B7C4-49751EF4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945B-49D1-403F-8221-7A9ED3CF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A038-73F0-4737-ABB4-F8970050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2C3A-1A10-4545-A5C2-4E0D4A11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2B5-E616-4F0F-8621-E1150BBC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9587-7DDA-450F-8D58-8AA7FD4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F929-81C9-4ACE-A50B-4DEEF98C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2C30-78F8-4052-AC0B-204682D6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89C7-CF63-4537-8175-6798FD17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7557-85C9-4AB7-99EB-63557CBF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527-6298-4463-A7D4-43C0786E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D1B-38B5-41A5-8105-7D04D8B9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963-1C2D-4DBA-9181-AF449D81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E28-B2D1-4993-99E2-57E222CE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820-F0F8-45AE-9882-7CA5F055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05B-586D-447D-9B27-A093F98E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375-FA45-434E-A740-278B0F61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51ED-5215-48A4-A980-ECDD9AB9BD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29F0-E23C-4264-89B7-0EC07162EF2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55609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786950"/>
                </a:solidFill>
                <a:latin typeface="华文中宋"/>
                <a:ea typeface="华文中宋"/>
              </a:rPr>
              <a:t>《哈姆莱特》</a:t>
            </a:r>
            <a:endParaRPr b="0" lang="en-US" sz="8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86950"/>
                </a:solidFill>
                <a:latin typeface="华文中宋"/>
                <a:ea typeface="华文中宋"/>
              </a:rPr>
              <a:t>李  民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19320" y="1523880"/>
            <a:ext cx="739116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哈姆莱特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莎士比亚的生平与创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哈姆莱特》剧情介绍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哈姆莱特形象的象征意义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哈姆莱特》的艺术成就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00"/>
                </a:solidFill>
                <a:latin typeface="华文中宋"/>
                <a:ea typeface="华文中宋"/>
              </a:rPr>
              <a:t>思考题：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哈姆莱特》悲剧有哪几条情节线索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剧本的结构有着怎样的层次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认识哈姆莱特这个人物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华文中宋"/>
                <a:ea typeface="华文中宋"/>
              </a:rPr>
              <a:t>推荐阅读书目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莎士比亚全集》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九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［英］莎士比亚著，朱生豪译，人民文学出版社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8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英国文艺复兴时期文学史》，王佐良，何其莘著，外语教学与研究出版社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Hamlet. Bolt, Sydney. London: Penguin, 1990\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What Happens in Hamlet. Wilson, John Dover. Cambridge: Cambridge University Press, 19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16:14:38Z</dcterms:modified>
  <cp:revision>7</cp:revision>
  <dc:subject/>
  <dc:title>坛  经</dc:title>
</cp:coreProperties>
</file>