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958-1B48-42F2-B2B8-F893F6F3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7C3-3724-4B78-BC2E-8055AF0D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305-96B6-4D8C-AAB1-3FF6BB4E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D53-703B-4182-9D9A-A2CD9284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9C07-D3AC-4F06-9AE1-0DE1CF85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5D64-7695-4279-8B02-253FFBD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31AB-339A-4425-89EA-FFD0A78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9635-9709-4997-873B-B97859B8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753D-9993-4E40-A05E-110BA85F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CB3-6819-44CE-B8B4-86317014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F8F5-13DC-4506-80F5-9B2F3D1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87C-6B9E-49D0-A8B1-3F126D8A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0B86-3211-4AD6-A4A8-CF65FA3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5B21-53A4-4283-A464-DB67B30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1E03-D449-4604-86CC-EB3CFE11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6A53-691F-4AC1-8F02-42589280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DB9-00E5-4E0C-A981-A69E23C2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B12-C973-4067-97A4-D453FDDD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3D6-0C90-4D8E-A274-10E6B81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2C-FFDC-4DD0-AA22-313ACF1B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F50-62DC-4072-A5B0-C0E7EBD7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433-E2F1-48DC-B7D9-8F8225E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6C1-2C55-4AB5-9490-9E58AD01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4AC-3D21-446B-B897-C47BA58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85AC-ACD3-48CA-9388-4D2E8057C3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471B-CFD3-4415-AD95-B2EADA5CED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意大利文艺复兴时期的文化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1447920"/>
            <a:ext cx="89154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意大利文艺复兴时期的文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艺复兴一个波澜壮阔的时代人诗歌的时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布克哈特其人其书简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化史名著的基本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关本书的补充阐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您认为“人文主义”应该是什么样一种内涵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文艺复兴是不是一次深刻的大历史运动呢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是，道理何在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不是，又有哪些反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您怎样理解“文艺复兴”这一名词，它到底指代了什么内容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意大利文艺复兴时期的文化》，［瑞士］雅各布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布克哈特著，何新译，商务印书馆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在大时代前面》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意大利文艺复兴三杰传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［苏］阿尔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阿尔塔耶夫著，李长敏等译，辽宁美术出版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开始陆续出版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共分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本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菲力普二世时代的地中海和地中海世界》，［法］费尔南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布罗代尔著，唐家龙等译，商务印书馆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8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22:36Z</dcterms:modified>
  <cp:revision>8</cp:revision>
  <dc:subject/>
  <dc:title>坛  经</dc:title>
</cp:coreProperties>
</file>