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980-DDC8-4352-92BF-4956E028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6CC-F4C5-4FDF-9091-80FC435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295-EDA8-4B7B-8F60-90DCF152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CB5-5DD9-4D46-ADBE-A71AE397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8F66-4B30-4234-8084-7860CB0D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332E-29B2-463F-8EEF-C18F9A04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F536-3E90-49A4-81D3-239F2FA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A356-2EBE-4756-8ABB-EBBD48B9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773A-E95E-4B4D-8D5B-D137E0B8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6426-ADB0-4B44-9F6B-D1E7573D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4F01-42FE-432F-AC04-C03A22A8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66D-4300-42E5-932C-B8671E3C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419D-55DE-40F2-929D-0B406EFD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16B3-3310-4219-A5E8-94A0AC46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463F-2CD9-4DC7-926F-C236E58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E73B-561C-4458-B740-9154D35C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10E9-3AE7-4F62-B18A-9B7B723B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E1E-3129-4188-AF15-FA5E5C32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346-E67A-4BEF-8C6E-AF995D02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B5F-79B1-4B1D-A533-AA173CE6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6DE-3030-4892-B3DB-2B37A735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F82-CA60-426C-80C9-105D09B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EA1-C252-4E09-B5A7-5F5ABB5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715-6E6B-43B8-9B85-AC06540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FDC6-4FEE-49D3-878C-6B77114B20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3305-74ED-407B-B539-DC0B62A2C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277640"/>
            <a:ext cx="624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00"/>
                </a:solidFill>
                <a:latin typeface="华文中宋"/>
                <a:ea typeface="华文中宋"/>
              </a:rPr>
              <a:t>诗  经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周凤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062000"/>
            <a:ext cx="72388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诗 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产生的时代背景与地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的传承历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的分类及其准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的表达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的艺术成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033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产生的时代背景是什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所以产生于周代，有无历史必然性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产生于之前的夏、商二代或之后的汉、唐，是否仍然是这个样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》按音乐的不同可分为风、雅、颂三个部分，是否有道理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理解诗“可以兴，可以观，可以群，可以怨”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体现在什么地方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否仍有借鉴作用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今注》，高亨著，上海古籍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0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选》，余冠英注译，人民文学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与周代社会研究》，孙作云著，中华书局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79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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诗经漫话》，程俊英著，上海文艺出版社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83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版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7:31:04Z</dcterms:modified>
  <cp:revision>5</cp:revision>
  <dc:subject/>
  <dc:title>坛  经</dc:title>
</cp:coreProperties>
</file>