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950-704F-42BE-A389-E87292D5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802-CF04-4699-ABC1-8666FB7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E0C-7040-4A76-BB48-C877584F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A3E-4B82-45D6-993F-7C19AF3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AC5-EAB0-4D1C-8B94-FEEA9375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2763-6EF8-47B2-A004-27A51FC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2DC-997B-4EF9-8924-D116E949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D57D-446B-4D5A-A6F6-E919B76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EFF1-8DEB-4C0B-A389-FA289057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92AC-EFBC-450E-A4D4-77C29067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7D6A-1A98-47CC-8F04-88FB21CF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B03-6E8B-4131-8B72-514EA30F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14B-B454-42EA-8AC8-631278F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1BBA-D3B4-4979-BAA0-130F07E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393-AF17-481B-ACB1-3AF147B7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D01-8971-479F-91D7-9B15EF05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0C3-DC4D-469F-8B97-DC13E174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590-9111-4149-8A1F-8024D189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E3C-B164-4FD8-AD22-20AECAAA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9CB-36E5-4C33-A838-2CD5A4C3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D46-F808-4C82-A024-64414FC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B1E-5AAF-4325-B136-846F2329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F0E-A904-4760-9B44-555183C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82D-BA5D-4072-A9EA-369CDD3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9A3-524C-43C7-B348-F4DACFCEE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C227-9C4E-4EB1-8BA9-F1F9C38F7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汉 宫 秋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05120"/>
            <a:ext cx="82296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汉 宫 秋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代曲剧大师马致远的人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汉宫秋》的故事情节及人物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汉宫秋》的立意与立场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汉宫秋》的意境美和风格特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“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亲”这一文化心理应该怎样认识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历史立足点和当代立足点应该放在哪里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马致远为什么要把毛延寿写得那样集众恶于一身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《汉宫秋》看中国古典悲剧的情节特征。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元人杂剧选》，顾肇仓选注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8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元曲选》，臧懋循编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宋元戏曲史》，王国维著，华东师范大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5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40:04Z</dcterms:modified>
  <cp:revision>13</cp:revision>
  <dc:subject/>
  <dc:title>坛  经</dc:title>
</cp:coreProperties>
</file>