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661-8450-4B24-A2AA-40C29F2F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739-D199-4592-B648-181C7E7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8B9-D981-4B12-978A-04D94DA0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514-8140-4389-9B87-C22B138E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D391-1476-4DFF-9075-B7DD3FCD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0A39-845E-45F3-9912-1E1F8FE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94F-9749-4910-8574-6EF0BE8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C3E0-E3D0-4DE1-8B18-DF7E40F7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7256-9A00-42F6-89E5-AE4EA04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9EBD-5613-4BC0-B8F7-2D59902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B8A6-1333-4D58-B1D9-2642C4E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B3F-81DE-4D67-85F5-8DD2BB0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E73-7400-40DD-9501-020528F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9D08-E267-480C-9001-A16D33E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F8E9-055F-468C-B382-1EB0B31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819-0658-43BD-BB32-B67F1EC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A85D-B111-4386-9E1A-C82B6FFA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8A9-8970-4E00-85E2-DEC7471C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16C-B3AA-4A40-8F5B-5D3B5E6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054-F1E7-41B8-893D-254DAF3F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8DD-0F69-4C6E-A512-43CCA3FA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97C-553E-42A6-B926-5744959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152-B553-4958-885A-91C9BBD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B39-907E-4DD8-9B96-C0BDCED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6496-8949-4238-BD6E-90C885BBB94C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578-D8AB-4904-A121-A2FFD93AB4DF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bd189"/>
                </a:solidFill>
                <a:latin typeface="华文中宋"/>
                <a:ea typeface="华文中宋"/>
              </a:rPr>
              <a:t>《传 习 录》</a:t>
            </a:r>
            <a:endParaRPr b="0" lang="en-US" sz="8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中宋"/>
                <a:ea typeface="华文中宋"/>
              </a:rPr>
              <a:t>李健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8800" y="2362320"/>
            <a:ext cx="60199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  <a:ea typeface="华文中宋"/>
              </a:rPr>
              <a:t>此心光明，亦复何言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  <a:ea typeface="华文中宋"/>
              </a:rPr>
              <a:t>——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  <a:ea typeface="华文中宋"/>
              </a:rPr>
              <a:t>王阳明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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9680" y="1752480"/>
            <a:ext cx="52578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传 习 录》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王阳明的生平事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传习录》的思想精髓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结语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bd189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1</a:t>
            </a: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王阳明思想的特征是什么？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2</a:t>
            </a:r>
            <a:r>
              <a:rPr b="0" lang="zh-CN" sz="3600" spc="-1" strike="noStrike">
                <a:solidFill>
                  <a:srgbClr val="eaeaea"/>
                </a:solidFill>
                <a:latin typeface="华文中宋"/>
                <a:ea typeface="华文中宋"/>
              </a:rPr>
              <a:t>如何认识王阳明思想对中国现代思想文化的影响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bd189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王阳明全集》，上海古籍出版社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992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年版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明儒学案》，黄宗羲著，中华书局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985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年排印本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3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明代思想史》，容肇祖著，齐鲁书社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992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4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朱子学与阳明学》，岛田虔次著，陕西师范大学出版社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986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5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《有无之境——王阳明哲学的精神》，陈来著，人民出版社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1991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03:18Z</dcterms:modified>
  <cp:revision>6</cp:revision>
  <dc:subject/>
  <dc:title>坛  经</dc:title>
</cp:coreProperties>
</file>