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525-C582-4B33-B96D-8FB4B7BF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EB2-2C5B-4D6E-BCD7-A1A9FB5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617-7A53-4994-9CD9-0C440CDD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67F-FE0C-4EED-AC71-A3C5F4E5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6848-BACD-4B8A-9E0D-39DBAD23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9E08-C560-4A7D-AB3C-500B1330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BEDD-D1E7-4B71-B28C-4A139A54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2A10-C13A-4D74-B2AA-D6F17145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48C2-D9C2-4A44-A4AB-CE60E3B4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A61E-3074-47DB-9E80-F45AE2B8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4CF3-0DC9-4631-9DEC-676453AE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963-0983-48CA-86C3-F1FF3E1F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7A28-3B28-407E-BF56-83CE4DDE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5055-4E56-4A99-B3A0-B4E635F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3BFC-DBEA-4233-91E1-FCE9B5B1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400D-3CE7-4EF9-BC7A-468DAD7E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5B80-85A2-4538-AA3D-347147C7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90B-CA94-4245-B0CA-CB4B1EDE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DD3-1E47-4D4D-BC46-1F7D6BB7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124-DAC9-4619-AB48-5916146A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940-4261-4CD9-9D54-BAC84D4F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33F-4D5F-4A11-A0CF-28275F9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075-984A-40BD-8967-EAECCD7B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450-125C-4C61-854A-8EF3F7C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38C1-781B-4818-A773-55BC8C7D66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AE2A-A3D7-47C4-8E83-3F87D3F30A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庄  子》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汤书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143000"/>
            <a:ext cx="822960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庄 子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庄子其人及其传闻事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庄子》的文化与学术定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庄子》的核心思想述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哲学思想核心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生哲学核心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社会观要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自然观要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死观要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山木》篇选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考题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老子和庄子在思想方法上有哪些异同点，试提炼陈述。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庄子的“浑沌观”表示了什么样的哲学立场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说庄子散文是“文学的哲学，哲学的文学”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推荐阅读书目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庄子今注今译》，陈鼓应译注，中华书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3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庄子集释》，［清］郭庆藩，中华书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61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庄子内篇校释》，见《闻一多全集》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闻一多著，三联书店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2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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8:31:10Z</dcterms:modified>
  <cp:revision>11</cp:revision>
  <dc:subject/>
  <dc:title>坛  经</dc:title>
</cp:coreProperties>
</file>